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move the slide</a:t>
            </a:r>
            <a:endParaRPr b="0" lang="en-US" sz="4400" spc="-1" strike="noStrike">
              <a:solidFill>
                <a:srgbClr val="000000"/>
              </a:solidFill>
              <a:latin typeface="Open San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EF73-56FF-475C-B88E-117C0CF9F2AF}"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also has special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should be done when a client/patient/resident is discharged, transferred, or the precautions are discontinued. The cleaning procedure is done twice in a row to ensure that all the </a:t>
            </a:r>
            <a:r>
              <a:rPr b="0" i="1" lang="en-US" sz="1200" spc="-1" strike="noStrike">
                <a:solidFill>
                  <a:srgbClr val="000000"/>
                </a:solidFill>
                <a:latin typeface="Calibri"/>
                <a:ea typeface="ＭＳ Ｐゴシック"/>
              </a:rPr>
              <a:t>C. diff </a:t>
            </a:r>
            <a:r>
              <a:rPr b="0" lang="en-US" sz="1200" spc="-1" strike="noStrike">
                <a:solidFill>
                  <a:srgbClr val="000000"/>
                </a:solidFill>
                <a:latin typeface="Calibri"/>
                <a:ea typeface="ＭＳ Ｐゴシック"/>
              </a:rPr>
              <a:t>spores have been rem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tart by removing all dirty or used items from the room and then remove all curtains. Next, all disposable supplies should be discarded. Now the regular contact cleaning process can be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member to use fresh equipment and supplies for each cleaning of the room and ensure that the product is left on the surfaces for the correct contact time.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1548-197B-47CE-8C58-713F3958D3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VRE also require enhanced cleaning measures. Daily cleaning of these rooms is required with careful attention to all high-touch surfaces. The use of friction, or elbow-grease, is important in removing VRE from surfaces in the environment. Simply wiping the surface is not enough to get rid of the germ. Be sure to rub the surface and get into all nooks and crannies when you are cleaning.  A fresh bucket of solution and mop head are needed for each room. In addition, your supervisor will let you know if the product used to clean is different from your usual product.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C018-9D95-4A70-8616-1D7D97E797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milarly to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 discharge cleaning for VRE is done whenever the client/patient/resident is discharged or transferred or precautions are dis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addition to your normal discharge cleaning protocols discharge cleaning for clients/patients/residents on Contact Precautions due to VRE incl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dirty or used items from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curtains and sending these for laund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iscarding all disposable supplies that have been left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ke sure to use fresh cloths, mop, and solutions for each room. Never place a used cloth back into a bucket of solution. This will contaminate the solution and may actually spread the germs throughout the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se friction when applying the product to surfaces and make sure that there is appropriate contact time of the product so that it is able to do its job.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7A31-9BD1-46D5-9CD6-22778BB4A6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roplet precautions are used along with Routine Practices for clients/patients/residents who have illnesses that may be spread by droplets. Droplets occur when the client/patient/resident coughs or sneezes and expels small particles into the air around them. These small particles, droplets, may travel about 2 metres from the client/patient/resident but do not remain floating in the air. They quickly land on surfaces. Examples of conditions that would require the use of Droplet Precautions are; influenza, whooping cough, meningitis, and strep thro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droplet precautions will be indicated by a sign posted on or near the door to the client/patient/resident’s door or bedspace. Most often facial protection (mask, eye protection) is required when you are within 2 metres of the client/patient/resid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nce surfaces immediately around the client/patient/resident may become contaminated with these droplets it is essential that all high-touch surfaces are cleaned daily. Routine room cleaning is sufficient and there is no need to use special products in cleaning these rooms.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975A-5358-4DA3-B68C-F54DE48DF7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226800" y="4343400"/>
            <a:ext cx="646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irborne precautions are used, in addition to Routine Practices, for clients/patients/residents who have illnesses that may be spread through the airborne route. This occurs when the client/patient/resident expels small particles through coughing, sneezing, laughing that are so tiny they remain floating on the air currents in the room for long periods of time. An important aspect of Airborne Precautions is the need to maintain the patient/resident environment at a negative pressure to the areas around it. This requires special engineering controls that may not be available in long-term care homes. If these are not available, arrangements will be made as soon as possible to transfer the resident to a facility where negative pressure is available. Examples of illnesses that are spread through Airborne are some forms of tuberculosis, measles, chickenpox, and new viruses that have not been seen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lients/patients/residents on Airborne precautions must be in a room with negative pressure to ensure that the germs do not leave the room and possibly infect others. The door to the room must remain closed and all staff entering the room must wear a fit-tested N95 respirator. You should know what respirator is appropriate for you to wear and should only wear this particular one. Remember to do a seal check when you put your respirato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ith all rooms that have additional precautions, high touch surfaces should be cleaned daily. However, the environment is not a mechanism for transmission of illnesses spread by the airborne route so your routine cleaning is sufficient for these rooms. On discharge, if possible, you should wait for a period of time to allow all the air in the room to be changed over before you do your discharge/vacancy cleaning. Your supervisor will let you know when this can be done.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81F0-3A9D-4ABE-8571-1EA81FC5DA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a number of germs that can be spread by more than one way. In these instances, a combination of additional precautions may be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 example would be Respiratory Syncytial virus, a virus that is common in young children and has been seen more often in long-term care. While droplet transmission is the primary route of transmission it may also contaminate the environment and be spread through indirect contact. In this case, Droplet and Contact Precautions would be used.  </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200B-A125-4836-819E-9006D6DD95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7DED-4FB4-4D4A-841B-D23999D95C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E1B0-CD96-40CD-A82D-3F7F4125D3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o test your knowledge of the information we have just covered, match the statements on the left hand side of this slide to the type of precautions listed on the right hand side of the slide. Check your answers on the next slide.</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A1F5-4E32-47DF-A38A-AB441A5EC4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fit-tested N95 respirator must be worn whenever you enter the room of a client/patient/resident on Airborne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sporicidal agent should be used when cleaning the room of a client/patient/resident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The regular disinfectants will not eliminate the spores from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posable supplies to be discarded during discharge clean is correct for both “Contact Precautions – VRE” &amp; “Contact Precautions –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f you gave either answer you were correct. If you correctly identified both, you’ve really been paying attention. Congrat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PE includes mask and eye protection – the correct answer is Droplet Precautions. The droplets may enter through mucous membranes of eyes, nose or mouth so it is important to keep these covered when you are within 2 metres of a client/patient/resident on Droplet Precaution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25AA-BDA2-4CC2-8FA6-B731B5424A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for this modules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scribe and demonstrate appropriate procedures for cleaning rooms of clients/patients/residents on additional preca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o describe and demonstrate appropriate procedures for specialized cleaning.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75BF-AE79-4046-B380-0F55F750A0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you return to your job, what will you do differently as a result of this session?</a:t>
            </a:r>
            <a:r>
              <a:rPr b="0" lang="en-CA" sz="1200" spc="-1" strike="noStrike">
                <a:solidFill>
                  <a:srgbClr val="000000"/>
                </a:solidFill>
                <a:latin typeface="Calibri"/>
                <a:ea typeface="ＭＳ Ｐゴシック"/>
              </a:rPr>
              <a:t> Make a list of three things you will do differently as a result of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sk question.   Offer suggestions.   May also be used as small group activity with larger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nother option would be ask participants to write their ideas on paper – collect and read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ea typeface="ＭＳ Ｐゴシック"/>
              </a:rPr>
              <a:t>Note</a:t>
            </a:r>
            <a:r>
              <a:rPr b="1" lang="en-CA" sz="1200" spc="-1" strike="noStrike">
                <a:solidFill>
                  <a:srgbClr val="000000"/>
                </a:solidFill>
                <a:latin typeface="Calibri"/>
                <a:ea typeface="ＭＳ Ｐゴシック"/>
              </a:rPr>
              <a:t>:  This is an important application activity.  Be sure to allow time for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E686-00E2-4E7B-9138-32A55FAAC1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is concludes module 5 on Additional Precautions. Thank you!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A023-86CF-4713-99C4-A718BD2035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a typeface="ＭＳ Ｐゴシック"/>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7D07-B39F-4425-ACCD-A48829C8A0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e said earlier, additional precautions are based on how germs may be sp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three categories of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Contact Precautions – for germs that may be spread by direct or indirect contact with the client/patient/resident and/or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roplet Precautions – for germs that may be spread through droplets, such as when a person sneez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Airborne Precautions – for germs that are spread by remaining in the air for prolonged periods and that can then be inhaled by other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health-care settings, the practices used for Additional Precautions may vary. This will be based on the risk to health-care staff and other clients/patients/resident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F76F-8B6F-484D-8DEA-CC48F26702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several elements that make up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 starts with Routine Practices. Then specialized accommodation may be needed. Signage should always be posted either on entry to the room or where it can be seen before staff enter the client/patient/resident bedspace. Next, barrier equipment, or PPE, is necessary. This will vary depending on the type of Additional precautions. Clients/patients/residents on additional precautions should have equipment dedicated for their use and additional cleaning measures may be needed. Your supervisor will let you know if this is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ransporting of the client/patient/resident outside of their room should be limited to only that which is necessary for their treatment. This will reduce the risk of spread to others in the set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ost importantly, good communication is required to ensure that the client/patient/resident understands why they are on additional precautions and that staff and visitors understand what precautions need to be taken.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3029-D11B-441F-9EBE-65B6844F9F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7D6A-6D4B-410A-A5DB-DBAE3E1EAE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2EB8-316A-4765-8EFC-E2E6B7F43A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ad question</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371B-6420-4764-8119-0509EA9E74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correct answer is 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Additional precautions should be indicated by a sign near the entrance to the patient’s/resident’s room or bedspace. All health-care staff, including environmental staff, should follow the precautions indicated on this sign. Just as hospitals are different from long-term care, the way additional precautions are implemented will vary depending on what setting you work in.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060A-5435-4DA5-9711-B2B633B8EC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are used for germs or symptoms that may be spread through direct or indirect contact with the client/patient/resident and/or their environment. Examples of clinical symtoms/presentations that may require contact precautions are; antibiotic resistant organisms such as MRSA or VRE, clients/patients/residents with diarrhea and/or vomiting, scabies, </a:t>
            </a:r>
            <a:r>
              <a:rPr b="0" i="1" lang="en-US" sz="1200" spc="-1" strike="noStrike">
                <a:solidFill>
                  <a:srgbClr val="000000"/>
                </a:solidFill>
                <a:latin typeface="Calibri"/>
                <a:ea typeface="ＭＳ Ｐゴシック"/>
              </a:rPr>
              <a:t>C. diff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includes PPE which should be indicated on a sign that is posted on the door to the room or immediately outside the bedspace. Most often the PPE used is gown and gloves. In acute care this will be put on to enter the room however in long-term care these will be used only to provide direct or ‘hands-on’ care. Rooms of clients/patients/residents with VRE 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require special cleaning that we will cover next. Because these germs are spread by direct or indirect touching all surfaces that are ‘high-touch’ should be cleaned thoroughly at least once a day. When the client/patient/resident is discharged, transferred or precautions are discontinued a discharge/vacancy clean should be done and all curtains should be removed and laundered.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4914-57A9-405D-B268-94B17D8D69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n addition to your usual thorough daily cleaning for contact precautions there are some added details that are used to reduce the risk of spr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should be cleaned twice a day. The agent that is used should be sporicidal (able to kill spores) and the product used will determine the process you use. If you are using bleach as the sporicidal agent then you will need to clean the room with the regular disinfectant and then repeat the process using the sporicide. This will be done twice each day. Remember that a fresh bucket and mop head need to be used for each room.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5978-2375-4F50-ADAD-7C6FA283DF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0CBB9-8E1F-416E-AD98-EC43F4262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3F4D7-3A2A-422D-820F-7791FC6B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BE971-AD24-40F4-AD89-75D58C3EE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C6114-BDE2-4097-B8DD-384BDE889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092C8-4888-4DE0-B2EC-C388CCA26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E87AF-D5C8-4735-9D9A-B6C9F7623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6873A-75C2-4880-BABD-4F8FEA896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AC792-A984-4DB0-960F-2A4DC0C74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084B9-EAC2-4702-A7BD-9C3E502D9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A671C-C797-41D1-B62A-12F72D5A4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8E021-D531-4A83-B3F3-DA8FC5450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8725E-CA80-459B-80B4-E0ABE60C4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7646E-1B64-48B9-8881-0059376DD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2E3B9-0766-402E-A24F-95298CF82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53C93-A2A7-43E9-8571-5838486B3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FB9CE-4CD2-4A86-8D94-0A0E95967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2E392-FE63-4B20-ABBD-73D5B5619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A9C1C-5EA1-4E67-83D9-874B9E5A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D5AA7-2F8B-4405-98CF-364CFD216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FF60-5D7F-4751-A367-9D1B0103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6DAA-2752-4529-95CE-32167A4B3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89145-C377-4E85-B59D-EE8149C10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2ACE-2BE9-4317-AF56-E5A8DC345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18E4-6529-47F2-8DFF-1CCC56CA0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8C2F-9F4E-4A9B-845F-D07ED7455232}"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5" name="Imagem 6" descr="7542_DGS_powerpoint-04.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DB04-7FCA-43D8-A6EC-F23198FED407}"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47" name="Imagem 6" descr="7542_DGS_powerpoint-05.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FNVU-38xiy8" TargetMode="External"/><Relationship Id="rId2" Type="http://schemas.openxmlformats.org/officeDocument/2006/relationships/hyperlink" Target="https://www.youtube.com/watch?v=4j4Er5ld6v4" TargetMode="External"/><Relationship Id="rId3" Type="http://schemas.openxmlformats.org/officeDocument/2006/relationships/hyperlink" Target="https://www.youtube.com/watch?v=Y7JiuB7M2qw" TargetMode="External"/><Relationship Id="rId4" Type="http://schemas.openxmlformats.org/officeDocument/2006/relationships/hyperlink" Target="https://www.youtube.com/watch?v=JC21AjNsYOY"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3"/>
          <p:cNvSpPr/>
          <p:nvPr/>
        </p:nvSpPr>
        <p:spPr>
          <a:xfrm>
            <a:off x="1066680" y="2146320"/>
            <a:ext cx="78613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Boas Práticas na Limpeza de Superfícies Ambientais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nas Unidades de Saúde</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2060"/>
                </a:solidFill>
                <a:latin typeface="Open Sans"/>
                <a:ea typeface="Arial"/>
              </a:rPr>
              <a:t>Aplicadas às PBVT</a:t>
            </a:r>
            <a:endParaRPr b="0" lang="en-US" sz="3200" spc="-1" strike="noStrike">
              <a:solidFill>
                <a:srgbClr val="000000"/>
              </a:solidFill>
              <a:latin typeface="Arial"/>
            </a:endParaRPr>
          </a:p>
        </p:txBody>
      </p:sp>
      <p:sp>
        <p:nvSpPr>
          <p:cNvPr id="92" name="TextBox 4"/>
          <p:cNvSpPr/>
          <p:nvPr/>
        </p:nvSpPr>
        <p:spPr>
          <a:xfrm>
            <a:off x="6238800" y="5645160"/>
            <a:ext cx="25066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Arial"/>
              </a:rPr>
              <a:t>DGS/DQS/DGQ/PPCI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595959"/>
                </a:solidFill>
                <a:latin typeface="Arial"/>
                <a:ea typeface="Arial"/>
              </a:rPr>
              <a:t>Formação: 2015</a:t>
            </a:r>
            <a:endParaRPr b="0" lang="en-US" sz="2000" spc="-1" strike="noStrike">
              <a:solidFill>
                <a:srgbClr val="000000"/>
              </a:solidFill>
              <a:latin typeface="Arial"/>
            </a:endParaRPr>
          </a:p>
        </p:txBody>
      </p:sp>
      <p:pic>
        <p:nvPicPr>
          <p:cNvPr id="93" name="Imagem 4" descr="Logo_Departamento da Qualidade na Saúde.jpg"/>
          <p:cNvPicPr/>
          <p:nvPr/>
        </p:nvPicPr>
        <p:blipFill>
          <a:blip r:embed="rId1"/>
          <a:stretch/>
        </p:blipFill>
        <p:spPr>
          <a:xfrm>
            <a:off x="1900080" y="425520"/>
            <a:ext cx="2756160" cy="1882800"/>
          </a:xfrm>
          <a:prstGeom prst="rect">
            <a:avLst/>
          </a:prstGeom>
          <a:ln w="0">
            <a:noFill/>
          </a:ln>
        </p:spPr>
      </p:pic>
      <p:sp>
        <p:nvSpPr>
          <p:cNvPr id="94" name="Seta para baixo 4"/>
          <p:cNvSpPr/>
          <p:nvPr/>
        </p:nvSpPr>
        <p:spPr>
          <a:xfrm>
            <a:off x="4470480" y="4356000"/>
            <a:ext cx="1041480" cy="9144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9000" y="303120"/>
            <a:ext cx="81468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30" name=""/>
          <p:cNvSpPr txBox="1"/>
          <p:nvPr/>
        </p:nvSpPr>
        <p:spPr>
          <a:xfrm>
            <a:off x="455760" y="1436760"/>
            <a:ext cx="8200800" cy="5129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 após alta/transferência do utente -  </a:t>
            </a:r>
            <a:r>
              <a:rPr b="0" lang="en-US" sz="2400" spc="-1" strike="noStrike" u="sng">
                <a:solidFill>
                  <a:srgbClr val="000000"/>
                </a:solidFill>
                <a:uFillTx/>
                <a:latin typeface="Open Sans"/>
                <a:ea typeface="ＭＳ Ｐゴシック"/>
              </a:rPr>
              <a:t>limpeza dupla</a:t>
            </a:r>
            <a:endParaRPr b="0" lang="en-US" sz="24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foi transferid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a:t>
            </a:r>
            <a:r>
              <a:rPr b="0" lang="en-US" sz="32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ver normas internas)</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
        <p:nvSpPr>
          <p:cNvPr id="13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A371-B315-4457-96CD-019ED540678A}"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26800"/>
            <a:ext cx="80485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3" name=""/>
          <p:cNvSpPr txBox="1"/>
          <p:nvPr/>
        </p:nvSpPr>
        <p:spPr>
          <a:xfrm>
            <a:off x="455760" y="1436760"/>
            <a:ext cx="8246880" cy="473688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Limpeza diária:</a:t>
            </a:r>
            <a:endParaRPr b="0" lang="en-US" sz="2800" spc="-1" strike="noStrike">
              <a:solidFill>
                <a:srgbClr val="000000"/>
              </a:solidFill>
              <a:latin typeface="Open San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dicionalmente à limpeza de rotina:</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Usar </a:t>
            </a:r>
            <a:r>
              <a:rPr b="0" lang="pt-PT" sz="2800" spc="-1" strike="noStrike">
                <a:solidFill>
                  <a:srgbClr val="000000"/>
                </a:solidFill>
                <a:latin typeface="Open Sans"/>
              </a:rPr>
              <a:t>balde limpo, cabeça de esfregona e panos para cada quarto de doente com VRE</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pós a limpeza, aplicar um desinfetante de baixo nível, em todas as superfícies e assegurar que o mesmo contactou com todas as superfícies, durante o tempo necesário à sua ação</a:t>
            </a:r>
            <a:endParaRPr b="0" lang="en-US" sz="28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3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359D-BDDE-4085-BC4F-CEFDF3F05363}"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5400" y="226800"/>
            <a:ext cx="81248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6" name=""/>
          <p:cNvSpPr txBox="1"/>
          <p:nvPr/>
        </p:nvSpPr>
        <p:spPr>
          <a:xfrm>
            <a:off x="455400" y="1257120"/>
            <a:ext cx="8413560" cy="5043240"/>
          </a:xfrm>
          <a:prstGeom prst="rect">
            <a:avLst/>
          </a:prstGeom>
          <a:solidFill>
            <a:srgbClr val="ffffff"/>
          </a:solidFill>
          <a:ln w="0">
            <a:noFill/>
          </a:ln>
        </p:spPr>
        <p:txBody>
          <a:bodyPr anchor="t">
            <a:normAutofit fontScale="90000"/>
          </a:bodyPr>
          <a:p>
            <a:pPr marL="308520" indent="-3085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a:t>
            </a:r>
            <a:endParaRPr b="0" lang="en-US" sz="24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é transferido </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08520" indent="-30852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consultar norma interna)</a:t>
            </a:r>
            <a:endParaRPr b="0" lang="en-US" sz="2000" spc="-1" strike="noStrike">
              <a:solidFill>
                <a:srgbClr val="000000"/>
              </a:solidFill>
              <a:latin typeface="Open Sans"/>
            </a:endParaRPr>
          </a:p>
        </p:txBody>
      </p:sp>
      <p:sp>
        <p:nvSpPr>
          <p:cNvPr id="13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5366-11AC-4D45-8F4C-EDCB1AD257E5}"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1"/>
              </a:rPr>
              <a:t>https://www.youtube.com/watch?v=FNVU-38xiy8 </a:t>
            </a:r>
            <a:r>
              <a:rPr b="0" lang="pt-PT" sz="2000" spc="-1" strike="noStrike">
                <a:solidFill>
                  <a:srgbClr val="000000"/>
                </a:solidFill>
                <a:latin typeface="Open Sans"/>
              </a:rPr>
              <a:t>– limpeza </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2"/>
              </a:rPr>
              <a:t>https://www.youtube.com/watch?v=4j4Er5ld6v4 </a:t>
            </a:r>
            <a:r>
              <a:rPr b="0" lang="pt-PT" sz="2000" spc="-1" strike="noStrike">
                <a:solidFill>
                  <a:srgbClr val="000000"/>
                </a:solidFill>
                <a:latin typeface="Open Sans"/>
              </a:rPr>
              <a:t>– limpeza terminal</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3"/>
              </a:rPr>
              <a:t>https://www.youtube.com/watch?v=Y7JiuB7M2qw </a:t>
            </a:r>
            <a:r>
              <a:rPr b="0" lang="pt-PT" sz="2000" spc="-1" strike="noStrike">
                <a:solidFill>
                  <a:srgbClr val="000000"/>
                </a:solidFill>
                <a:latin typeface="Open Sans"/>
              </a:rPr>
              <a:t>– limpeza corrente</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4"/>
              </a:rPr>
              <a:t>https://www.youtube.com/watch?v=JC21AjNsYOY </a:t>
            </a:r>
            <a:r>
              <a:rPr b="0" lang="pt-PT" sz="2000" spc="-1" strike="noStrike">
                <a:solidFill>
                  <a:srgbClr val="000000"/>
                </a:solidFill>
                <a:latin typeface="Open Sans"/>
              </a:rPr>
              <a:t>– limpeza do bloco operatóri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https://www.youtube.com/watch?v=03noOuhN_ek – limpeza de quarto ocupad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Precauções de Gotícula</a:t>
            </a:r>
            <a:endParaRPr b="0" lang="en-US" sz="2800" spc="-1" strike="noStrike">
              <a:solidFill>
                <a:srgbClr val="000000"/>
              </a:solidFill>
              <a:latin typeface="Open Sans"/>
            </a:endParaRPr>
          </a:p>
        </p:txBody>
      </p:sp>
      <p:sp>
        <p:nvSpPr>
          <p:cNvPr id="141" name=""/>
          <p:cNvSpPr txBox="1"/>
          <p:nvPr/>
        </p:nvSpPr>
        <p:spPr>
          <a:xfrm>
            <a:off x="455760" y="1436760"/>
            <a:ext cx="4052880" cy="473688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de acordo com as indicações do sinalizador</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p:txBody>
      </p:sp>
      <p:graphicFrame>
        <p:nvGraphicFramePr>
          <p:cNvPr id="142" name="Content Placeholder 4"/>
          <p:cNvGraphicFramePr/>
          <p:nvPr/>
        </p:nvGraphicFramePr>
        <p:xfrm>
          <a:off x="5245200" y="1387440"/>
          <a:ext cx="3425760" cy="4525920"/>
        </p:xfrm>
        <a:graphic>
          <a:graphicData uri="http://schemas.openxmlformats.org/presentationml/2006/ole">
            <p:oleObj r:id="rId1" spid="">
              <p:embed/>
              <p:pic>
                <p:nvPicPr>
                  <p:cNvPr id="143" name="Content Placeholder 4" descr=""/>
                  <p:cNvPicPr/>
                  <p:nvPr/>
                </p:nvPicPr>
                <p:blipFill>
                  <a:blip r:embed="rId2"/>
                  <a:stretch/>
                </p:blipFill>
                <p:spPr>
                  <a:xfrm>
                    <a:off x="5245200" y="1387440"/>
                    <a:ext cx="3425760" cy="4525920"/>
                  </a:xfrm>
                  <a:prstGeom prst="rect">
                    <a:avLst/>
                  </a:prstGeom>
                  <a:ln w="0">
                    <a:noFill/>
                  </a:ln>
                </p:spPr>
              </p:pic>
            </p:oleObj>
          </a:graphicData>
        </a:graphic>
      </p:graphicFrame>
      <p:sp>
        <p:nvSpPr>
          <p:cNvPr id="144" name="Rectangle 5"/>
          <p:cNvSpPr/>
          <p:nvPr/>
        </p:nvSpPr>
        <p:spPr>
          <a:xfrm>
            <a:off x="4525920" y="6019920"/>
            <a:ext cx="461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emplo de sinalizador</a:t>
            </a:r>
            <a:endParaRPr b="0" lang="en-US" sz="1800" spc="-1" strike="noStrike">
              <a:solidFill>
                <a:srgbClr val="000000"/>
              </a:solidFill>
              <a:latin typeface="Arial"/>
            </a:endParaRPr>
          </a:p>
        </p:txBody>
      </p:sp>
      <p:sp>
        <p:nvSpPr>
          <p:cNvPr id="14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8481-6F76-4EDC-A335-47D0B2AC5FAA}"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46" name="Rectângulo 6"/>
          <p:cNvSpPr/>
          <p:nvPr/>
        </p:nvSpPr>
        <p:spPr>
          <a:xfrm>
            <a:off x="4708440" y="1477800"/>
            <a:ext cx="44355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47" name="Rectângulo 7"/>
          <p:cNvSpPr/>
          <p:nvPr/>
        </p:nvSpPr>
        <p:spPr>
          <a:xfrm>
            <a:off x="5989680" y="2454120"/>
            <a:ext cx="1874880" cy="53352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PRECAUÇÕES </a:t>
            </a:r>
            <a:endParaRPr b="0" lang="en-US" sz="1800" spc="-1" strike="noStrike">
              <a:solidFill>
                <a:srgbClr val="000000"/>
              </a:solidFill>
              <a:latin typeface="Arial"/>
            </a:endParaRPr>
          </a:p>
        </p:txBody>
      </p:sp>
      <p:sp>
        <p:nvSpPr>
          <p:cNvPr id="148" name="Rectângulo 8"/>
          <p:cNvSpPr/>
          <p:nvPr/>
        </p:nvSpPr>
        <p:spPr>
          <a:xfrm>
            <a:off x="5502240" y="2865600"/>
            <a:ext cx="2819520" cy="69984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GOTÍCULA (PG)</a:t>
            </a:r>
            <a:endParaRPr b="0" lang="en-US" sz="2000" spc="-1" strike="noStrike">
              <a:solidFill>
                <a:srgbClr val="000000"/>
              </a:solidFill>
              <a:latin typeface="Arial"/>
            </a:endParaRPr>
          </a:p>
        </p:txBody>
      </p:sp>
      <p:sp>
        <p:nvSpPr>
          <p:cNvPr id="149" name="Rectângulo 9"/>
          <p:cNvSpPr/>
          <p:nvPr/>
        </p:nvSpPr>
        <p:spPr>
          <a:xfrm>
            <a:off x="5273640" y="5075280"/>
            <a:ext cx="3870360" cy="92880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G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0200" y="582480"/>
            <a:ext cx="7773840" cy="3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Open Sans"/>
                <a:ea typeface="ＭＳ Ｐゴシック"/>
              </a:rPr>
              <a:t>Precauções de Via Aérea</a:t>
            </a:r>
            <a:br>
              <a:rPr sz="2800"/>
            </a:br>
            <a:endParaRPr b="0" lang="en-US" sz="4400" spc="-1" strike="noStrike">
              <a:solidFill>
                <a:srgbClr val="000000"/>
              </a:solidFill>
              <a:latin typeface="Open Sans"/>
            </a:endParaRPr>
          </a:p>
        </p:txBody>
      </p:sp>
      <p:sp>
        <p:nvSpPr>
          <p:cNvPr id="151" name=""/>
          <p:cNvSpPr txBox="1"/>
          <p:nvPr/>
        </p:nvSpPr>
        <p:spPr>
          <a:xfrm>
            <a:off x="455400" y="2273400"/>
            <a:ext cx="4408200" cy="390024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spirador N95 ao entrar no quarto</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 do utente</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O quarto deve ter pressão negativa no quarto e áreas adjacentes</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52" name="Object 5"/>
          <p:cNvGraphicFramePr/>
          <p:nvPr/>
        </p:nvGraphicFramePr>
        <p:xfrm>
          <a:off x="5265720" y="1311120"/>
          <a:ext cx="3573360" cy="4876920"/>
        </p:xfrm>
        <a:graphic>
          <a:graphicData uri="http://schemas.openxmlformats.org/presentationml/2006/ole">
            <p:oleObj r:id="rId1" spid="">
              <p:embed/>
              <p:pic>
                <p:nvPicPr>
                  <p:cNvPr id="153" name="Object 5" descr=""/>
                  <p:cNvPicPr/>
                  <p:nvPr/>
                </p:nvPicPr>
                <p:blipFill>
                  <a:blip r:embed="rId2"/>
                  <a:stretch/>
                </p:blipFill>
                <p:spPr>
                  <a:xfrm>
                    <a:off x="5265720" y="1311120"/>
                    <a:ext cx="3573360" cy="4876920"/>
                  </a:xfrm>
                  <a:prstGeom prst="rect">
                    <a:avLst/>
                  </a:prstGeom>
                  <a:ln w="0">
                    <a:noFill/>
                  </a:ln>
                </p:spPr>
              </p:pic>
            </p:oleObj>
          </a:graphicData>
        </a:graphic>
      </p:graphicFrame>
      <p:sp>
        <p:nvSpPr>
          <p:cNvPr id="154" name="Rectangle 6"/>
          <p:cNvSpPr/>
          <p:nvPr/>
        </p:nvSpPr>
        <p:spPr>
          <a:xfrm>
            <a:off x="5470560" y="600408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 de sinalizador</a:t>
            </a:r>
            <a:endParaRPr b="0" lang="en-US" sz="1800" spc="-1" strike="noStrike">
              <a:solidFill>
                <a:srgbClr val="000000"/>
              </a:solidFill>
              <a:latin typeface="Arial"/>
            </a:endParaRPr>
          </a:p>
        </p:txBody>
      </p:sp>
      <p:sp>
        <p:nvSpPr>
          <p:cNvPr id="15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AF55-8B82-4502-89FB-8EE0966FBFDC}"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56" name="Rectângulo 7"/>
          <p:cNvSpPr/>
          <p:nvPr/>
        </p:nvSpPr>
        <p:spPr>
          <a:xfrm>
            <a:off x="4708440" y="1477800"/>
            <a:ext cx="443556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57" name="Rectângulo 8"/>
          <p:cNvSpPr/>
          <p:nvPr/>
        </p:nvSpPr>
        <p:spPr>
          <a:xfrm>
            <a:off x="6126120" y="2454120"/>
            <a:ext cx="1814400" cy="5335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RECAUÇÕES </a:t>
            </a:r>
            <a:endParaRPr b="0" lang="en-US" sz="1800" spc="-1" strike="noStrike">
              <a:solidFill>
                <a:srgbClr val="000000"/>
              </a:solidFill>
              <a:latin typeface="Arial"/>
            </a:endParaRPr>
          </a:p>
        </p:txBody>
      </p:sp>
      <p:sp>
        <p:nvSpPr>
          <p:cNvPr id="158" name="Rectângulo 9"/>
          <p:cNvSpPr/>
          <p:nvPr/>
        </p:nvSpPr>
        <p:spPr>
          <a:xfrm>
            <a:off x="5761080" y="2895480"/>
            <a:ext cx="2560680" cy="66996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Open Sans"/>
              </a:rPr>
              <a:t>DE VIA AÉREA (PVA)</a:t>
            </a:r>
            <a:endParaRPr b="0" lang="en-US" sz="2000" spc="-1" strike="noStrike">
              <a:solidFill>
                <a:srgbClr val="000000"/>
              </a:solidFill>
              <a:latin typeface="Arial"/>
            </a:endParaRPr>
          </a:p>
        </p:txBody>
      </p:sp>
      <p:sp>
        <p:nvSpPr>
          <p:cNvPr id="159" name="Rectângulo 10"/>
          <p:cNvSpPr/>
          <p:nvPr/>
        </p:nvSpPr>
        <p:spPr>
          <a:xfrm>
            <a:off x="5273640" y="5456160"/>
            <a:ext cx="3870360" cy="6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VA + PB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2680" y="404640"/>
            <a:ext cx="7247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Combinações de PBVT</a:t>
            </a:r>
            <a:endParaRPr b="0" lang="en-US" sz="2800" spc="-1" strike="noStrike">
              <a:solidFill>
                <a:srgbClr val="000000"/>
              </a:solidFill>
              <a:latin typeface="Open Sans"/>
            </a:endParaRPr>
          </a:p>
        </p:txBody>
      </p:sp>
      <p:sp>
        <p:nvSpPr>
          <p:cNvPr id="161" name=""/>
          <p:cNvSpPr txBox="1"/>
          <p:nvPr/>
        </p:nvSpPr>
        <p:spPr>
          <a:xfrm>
            <a:off x="1180800" y="2171880"/>
            <a:ext cx="7581960" cy="4001760"/>
          </a:xfrm>
          <a:prstGeom prst="rect">
            <a:avLst/>
          </a:prstGeom>
          <a:solidFill>
            <a:srgbClr val="ffffff"/>
          </a:solidFill>
          <a:ln w="0">
            <a:noFill/>
          </a:ln>
        </p:spPr>
        <p:txBody>
          <a:bodyPr anchor="t">
            <a:normAutofit fontScale="95000"/>
          </a:bodyPr>
          <a:p>
            <a:pPr marL="325800" indent="-32580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lguns microrganismos podem transmitir-se por mais do que uma via de transmissão. Nestes casos, é necessário aplicar as PBCI de forma combinada</a:t>
            </a:r>
            <a:endParaRPr b="0" lang="en-US" sz="2400" spc="-1" strike="noStrike">
              <a:solidFill>
                <a:srgbClr val="000000"/>
              </a:solidFill>
              <a:latin typeface="Open Sans"/>
            </a:endParaRPr>
          </a:p>
          <a:p>
            <a:pPr marL="325800" indent="-3258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x. Alguns virus respiratórios podem transmitir-se através de gotículas  e por contacto indireto com superfícies ou materiais contaminados </a:t>
            </a:r>
            <a:endParaRPr b="0" lang="en-US" sz="2000" spc="-1" strike="noStrike">
              <a:solidFill>
                <a:srgbClr val="000000"/>
              </a:solidFill>
              <a:latin typeface="Open Sans"/>
            </a:endParaRPr>
          </a:p>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Usar os 2 tipos de Precauções:    PG e PC.</a:t>
            </a:r>
            <a:endParaRPr b="0" lang="en-US" sz="2000" spc="-1" strike="noStrike">
              <a:solidFill>
                <a:srgbClr val="000000"/>
              </a:solidFill>
              <a:latin typeface="Open Sans"/>
            </a:endParaRPr>
          </a:p>
        </p:txBody>
      </p:sp>
      <p:sp>
        <p:nvSpPr>
          <p:cNvPr id="16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C098-C3E7-4D00-9CAF-62ADB797BA45}"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63" name="Seta para baixo 4"/>
          <p:cNvSpPr/>
          <p:nvPr/>
        </p:nvSpPr>
        <p:spPr>
          <a:xfrm>
            <a:off x="5486400" y="5511960"/>
            <a:ext cx="533520" cy="5205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286560" y="711360"/>
            <a:ext cx="488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Avaliação do conhecimento</a:t>
            </a:r>
            <a:endParaRPr b="0" lang="en-US" sz="2800" spc="-1" strike="noStrike">
              <a:solidFill>
                <a:srgbClr val="000000"/>
              </a:solidFill>
              <a:latin typeface="Arial"/>
            </a:endParaRPr>
          </a:p>
        </p:txBody>
      </p:sp>
      <p:pic>
        <p:nvPicPr>
          <p:cNvPr id="166"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6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F39F-87B1-4BD2-9E5B-B5FDFB093B9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8640" y="353880"/>
            <a:ext cx="85899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Open Sans"/>
              </a:rPr>
              <a:t>Combine a afirmação correta para o tipo de PBVT</a:t>
            </a:r>
            <a:endParaRPr b="0" lang="en-US" sz="3600" spc="-1" strike="noStrike">
              <a:solidFill>
                <a:srgbClr val="000000"/>
              </a:solidFill>
              <a:latin typeface="Open Sans"/>
            </a:endParaRPr>
          </a:p>
        </p:txBody>
      </p:sp>
      <p:sp>
        <p:nvSpPr>
          <p:cNvPr id="169" name=""/>
          <p:cNvSpPr txBox="1"/>
          <p:nvPr/>
        </p:nvSpPr>
        <p:spPr>
          <a:xfrm>
            <a:off x="457200" y="2069640"/>
            <a:ext cx="4191120" cy="405612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impo e desinfetado, com um desinfetante esporicida</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EPI incluem: máscara e protetor ocular </a:t>
            </a:r>
            <a:endParaRPr b="0" lang="en-US" sz="24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0" name=""/>
          <p:cNvSpPr txBox="1"/>
          <p:nvPr/>
        </p:nvSpPr>
        <p:spPr>
          <a:xfrm>
            <a:off x="4648320" y="2006640"/>
            <a:ext cx="4317840" cy="4508640"/>
          </a:xfrm>
          <a:prstGeom prst="rect">
            <a:avLst/>
          </a:prstGeom>
          <a:solidFill>
            <a:srgbClr val="ffffff"/>
          </a:solidFill>
          <a:ln w="0">
            <a:noFill/>
          </a:ln>
        </p:spPr>
        <p:txBody>
          <a:bodyPr anchor="t">
            <a:normAutofit/>
          </a:bodyPr>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Gotícul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VRE</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a:t>
            </a:r>
            <a:r>
              <a:rPr b="0"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 de Gotícula + P. de Contacto</a:t>
            </a:r>
            <a:endParaRPr b="0" lang="en-US" sz="2400" spc="-1" strike="noStrike">
              <a:solidFill>
                <a:srgbClr val="000000"/>
              </a:solidFill>
              <a:latin typeface="Open Sans"/>
            </a:endParaRPr>
          </a:p>
        </p:txBody>
      </p:sp>
      <p:sp>
        <p:nvSpPr>
          <p:cNvPr id="17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8ECD-4C01-40CA-93A0-5DE43631741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2440" y="290520"/>
            <a:ext cx="7604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Open Sans"/>
                <a:ea typeface="ＭＳ Ｐゴシック"/>
              </a:rPr>
              <a:t>Resposta à pergunta de avaliação</a:t>
            </a:r>
            <a:endParaRPr b="0" lang="en-US" sz="2800" spc="-1" strike="noStrike">
              <a:solidFill>
                <a:srgbClr val="000000"/>
              </a:solidFill>
              <a:latin typeface="Open Sans"/>
            </a:endParaRPr>
          </a:p>
        </p:txBody>
      </p:sp>
      <p:sp>
        <p:nvSpPr>
          <p:cNvPr id="17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 – </a:t>
            </a:r>
            <a:r>
              <a:rPr b="1"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avado e desinfetado com desinfetante esporicida – </a:t>
            </a:r>
            <a:r>
              <a:rPr b="1" lang="en-US" sz="2400" spc="-1" strike="noStrike">
                <a:solidFill>
                  <a:srgbClr val="000000"/>
                </a:solidFill>
                <a:latin typeface="Open Sans"/>
                <a:ea typeface="ＭＳ Ｐゴシック"/>
              </a:rPr>
              <a:t>Precauções de Contacto para </a:t>
            </a:r>
            <a:r>
              <a:rPr b="1" i="1" lang="en-US" sz="2400" spc="-1" strike="noStrike">
                <a:solidFill>
                  <a:srgbClr val="000000"/>
                </a:solidFill>
                <a:latin typeface="Open Sans"/>
                <a:ea typeface="ＭＳ Ｐゴシック"/>
              </a:rPr>
              <a:t>C. difficile</a:t>
            </a:r>
            <a:r>
              <a:rPr b="0" i="1" lang="en-US" sz="2400" spc="-1" strike="noStrike">
                <a:solidFill>
                  <a:srgbClr val="64bf25"/>
                </a:solidFill>
                <a:latin typeface="Open Sans"/>
                <a:ea typeface="ＭＳ Ｐゴシック"/>
              </a:rPr>
              <a:t>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 - 2 respostas corretas:</a:t>
            </a:r>
            <a:r>
              <a:rPr b="1" lang="en-US" sz="2400" spc="-1" strike="noStrike">
                <a:solidFill>
                  <a:srgbClr val="000000"/>
                </a:solidFill>
                <a:latin typeface="Open Sans"/>
                <a:ea typeface="ＭＳ Ｐゴシック"/>
              </a:rPr>
              <a:t> PC – VRE e PC - </a:t>
            </a:r>
            <a:r>
              <a:rPr b="1"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EPI incluem máscara e protetor ocular – Pr</a:t>
            </a:r>
            <a:r>
              <a:rPr b="1" lang="en-US" sz="2400" spc="-1" strike="noStrike">
                <a:solidFill>
                  <a:srgbClr val="000000"/>
                </a:solidFill>
                <a:latin typeface="Open Sans"/>
                <a:ea typeface="ＭＳ Ｐゴシック"/>
              </a:rPr>
              <a:t>ecauções  de Gotícula</a:t>
            </a:r>
            <a:endParaRPr b="0" lang="en-US" sz="2400" spc="-1" strike="noStrike">
              <a:solidFill>
                <a:srgbClr val="000000"/>
              </a:solidFill>
              <a:latin typeface="Open Sans"/>
            </a:endParaRPr>
          </a:p>
        </p:txBody>
      </p:sp>
      <p:sp>
        <p:nvSpPr>
          <p:cNvPr id="17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ED31-25C2-483B-927C-B6CBFE9FA587}"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Objetivos</a:t>
            </a:r>
            <a:endParaRPr b="0" lang="en-US" sz="2800" spc="-1" strike="noStrike">
              <a:solidFill>
                <a:srgbClr val="000000"/>
              </a:solidFill>
              <a:latin typeface="Open Sans"/>
            </a:endParaRPr>
          </a:p>
        </p:txBody>
      </p:sp>
      <p:sp>
        <p:nvSpPr>
          <p:cNvPr id="96" name="PlaceHolder 2"/>
          <p:cNvSpPr>
            <a:spLocks noGrp="1"/>
          </p:cNvSpPr>
          <p:nvPr>
            <p:ph/>
          </p:nvPr>
        </p:nvSpPr>
        <p:spPr>
          <a:xfrm>
            <a:off x="1574640" y="1995480"/>
            <a:ext cx="7290000" cy="4178160"/>
          </a:xfrm>
          <a:prstGeom prst="rect">
            <a:avLst/>
          </a:prstGeom>
          <a:noFill/>
          <a:ln w="0">
            <a:noFill/>
          </a:ln>
        </p:spPr>
        <p:txBody>
          <a:bodyPr anchor="t">
            <a:normAutofit/>
          </a:bodyPr>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da unidade do doente que está em regime de PBVT.</a:t>
            </a:r>
            <a:endParaRPr b="0" lang="en-US" sz="2400" spc="-1" strike="noStrike">
              <a:solidFill>
                <a:srgbClr val="000000"/>
              </a:solidFill>
              <a:latin typeface="Open Sans"/>
            </a:endParaRPr>
          </a:p>
          <a:p>
            <a:pPr marL="380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específicos.</a:t>
            </a:r>
            <a:endParaRPr b="0" lang="en-US" sz="2400" spc="-1" strike="noStrike">
              <a:solidFill>
                <a:srgbClr val="000000"/>
              </a:solidFill>
              <a:latin typeface="Open Sans"/>
            </a:endParaRPr>
          </a:p>
        </p:txBody>
      </p:sp>
      <p:sp>
        <p:nvSpPr>
          <p:cNvPr id="9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D217-B66E-4713-A008-0D247A1F89E8}"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2908080"/>
            <a:ext cx="7099200" cy="1741320"/>
          </a:xfrm>
          <a:prstGeom prst="rect">
            <a:avLst/>
          </a:prstGeom>
          <a:solidFill>
            <a:srgbClr val="ffffff"/>
          </a:solid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Open Sans"/>
                <a:ea typeface="ＭＳ Ｐゴシック"/>
              </a:rPr>
              <a:t>Quando voltar ao seu trabalho, o que é que vai fazer de diferente, como resultado desta sessão de formação?</a:t>
            </a:r>
            <a:endParaRPr b="0" lang="en-US" sz="2800" spc="-1" strike="noStrike">
              <a:solidFill>
                <a:srgbClr val="000000"/>
              </a:solidFill>
              <a:latin typeface="Open Sans"/>
            </a:endParaRPr>
          </a:p>
        </p:txBody>
      </p:sp>
      <p:sp>
        <p:nvSpPr>
          <p:cNvPr id="176" name="Slide Number Placeholder 4"/>
          <p:cNvSpPr/>
          <p:nvPr/>
        </p:nvSpPr>
        <p:spPr>
          <a:xfrm>
            <a:off x="6800760" y="6396120"/>
            <a:ext cx="2133720" cy="325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B22C-5BB1-4CCA-A867-6BB1523F14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4E12-89FA-4F50-B59E-28E227E1C4FF}"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1D97-1D50-405F-9EDE-3481BC946A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9" name="Text Box 3"/>
          <p:cNvSpPr/>
          <p:nvPr/>
        </p:nvSpPr>
        <p:spPr>
          <a:xfrm>
            <a:off x="1930320" y="2895480"/>
            <a:ext cx="538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ff"/>
                </a:solidFill>
                <a:latin typeface="Arial"/>
              </a:rPr>
              <a:t>Obrigada!</a:t>
            </a:r>
            <a:endParaRPr b="0" lang="en-US" sz="7200" spc="-1" strike="noStrike">
              <a:solidFill>
                <a:srgbClr val="000000"/>
              </a:solidFill>
              <a:latin typeface="Arial"/>
            </a:endParaRPr>
          </a:p>
        </p:txBody>
      </p:sp>
      <p:sp>
        <p:nvSpPr>
          <p:cNvPr id="18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E07B-4514-473E-8464-AE15389F8DEA}"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393480"/>
            <a:ext cx="7924680" cy="23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Open Sans"/>
                <a:ea typeface="ＭＳ Ｐゴシック"/>
              </a:rPr>
              <a:t>Link</a:t>
            </a:r>
            <a:r>
              <a:rPr b="0" lang="en-CA" sz="3200" spc="-1" strike="noStrike">
                <a:solidFill>
                  <a:srgbClr val="000000"/>
                </a:solidFill>
                <a:latin typeface="Open Sans"/>
                <a:ea typeface="ＭＳ Ｐゴシック"/>
              </a:rPr>
              <a:t> para vídeos sobre limpeza e PBCI/PBVT: </a:t>
            </a:r>
            <a:endParaRPr b="0" lang="en-US" sz="3200" spc="-1" strike="noStrike">
              <a:solidFill>
                <a:srgbClr val="000000"/>
              </a:solidFill>
              <a:latin typeface="Open Sans"/>
            </a:endParaRPr>
          </a:p>
        </p:txBody>
      </p:sp>
      <p:sp>
        <p:nvSpPr>
          <p:cNvPr id="182" name=""/>
          <p:cNvSpPr txBox="1"/>
          <p:nvPr/>
        </p:nvSpPr>
        <p:spPr>
          <a:xfrm>
            <a:off x="455400" y="901800"/>
            <a:ext cx="8399160" cy="5271840"/>
          </a:xfrm>
          <a:prstGeom prst="rect">
            <a:avLst/>
          </a:prstGeom>
          <a:solidFill>
            <a:srgbClr val="ffffff"/>
          </a:solidFill>
          <a:ln w="0">
            <a:noFill/>
          </a:ln>
        </p:spPr>
        <p:txBody>
          <a:bodyPr anchor="t">
            <a:normAutofit fontScale="97000"/>
          </a:bodyPr>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FNVU-38xiy8 – Limpeza - complet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Y7JiuB7M2qw – limpeza concorrente (limpeza corrente ou de rotina, em </a:t>
            </a:r>
            <a:r>
              <a:rPr b="0" i="1" lang="en-CA" sz="1600" spc="-1" strike="noStrike">
                <a:solidFill>
                  <a:srgbClr val="000000"/>
                </a:solidFill>
                <a:latin typeface="Open Sans"/>
                <a:ea typeface="ＭＳ Ｐゴシック"/>
              </a:rPr>
              <a:t>Português de Portug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JC21AjNsYOY – limpeza bloco operatóri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03noOuhN_ek – limpeza de um quarto que está ocupad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QWq_inkYYIg – Limpeza após a alta ou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4j4Er5ld6v4 – Limpeza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dcg2afw508w</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Mcx2Q-vDmSM – Limpeza hospitalar</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1z9nzUIK94I – colocar e remover bem os EPI</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G_tU7nvD5BI – PBCI e PBVT</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t8uhNAwfuu4 - Biosegurança</a:t>
            </a:r>
            <a:endParaRPr b="0" lang="en-US" sz="16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DDB9-322F-457C-BC12-246FD9852CD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3"/>
          <p:cNvSpPr/>
          <p:nvPr/>
        </p:nvSpPr>
        <p:spPr>
          <a:xfrm>
            <a:off x="1934640" y="341280"/>
            <a:ext cx="5283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Implementação das Precauções Básic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de Controlo de Infeção</a:t>
            </a:r>
            <a:endParaRPr b="0" lang="en-US" sz="2000" spc="-1" strike="noStrike">
              <a:solidFill>
                <a:srgbClr val="000000"/>
              </a:solidFill>
              <a:latin typeface="Arial"/>
            </a:endParaRPr>
          </a:p>
        </p:txBody>
      </p:sp>
      <p:sp>
        <p:nvSpPr>
          <p:cNvPr id="185" name="TextBox 6"/>
          <p:cNvSpPr/>
          <p:nvPr/>
        </p:nvSpPr>
        <p:spPr>
          <a:xfrm>
            <a:off x="609480" y="1403280"/>
            <a:ext cx="8280360" cy="402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Obje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Estrutura da Apresent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Metodologias de implementação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Fases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alendariz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Materiais de suporte: promocionais e técnicos;</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onclusões</a:t>
            </a:r>
            <a:endParaRPr b="0" lang="en-US" sz="20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Duração: </a:t>
            </a:r>
            <a:r>
              <a:rPr b="0" lang="en-US" sz="1600" spc="-1" strike="noStrike">
                <a:solidFill>
                  <a:srgbClr val="000000"/>
                </a:solidFill>
                <a:latin typeface="Open Sans"/>
                <a:ea typeface="Open Sans"/>
              </a:rPr>
              <a:t>15 minutos de apresentação e 5 minutos de discussão final.</a:t>
            </a:r>
            <a:endParaRPr b="0" lang="en-US" sz="1600" spc="-1" strike="noStrike">
              <a:solidFill>
                <a:srgbClr val="000000"/>
              </a:solidFill>
              <a:latin typeface="Arial"/>
            </a:endParaRPr>
          </a:p>
        </p:txBody>
      </p:sp>
      <p:sp>
        <p:nvSpPr>
          <p:cNvPr id="186" name="TextBox 5"/>
          <p:cNvSpPr/>
          <p:nvPr/>
        </p:nvSpPr>
        <p:spPr>
          <a:xfrm>
            <a:off x="766080" y="6434280"/>
            <a:ext cx="418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595959"/>
                </a:solidFill>
                <a:latin typeface="Open Sans"/>
                <a:ea typeface="Arial"/>
              </a:rPr>
              <a:t>Prevenção da Infeção Associada aos Cuidados de Saúde</a:t>
            </a:r>
            <a:endParaRPr b="0" lang="en-US" sz="1200" spc="-1" strike="noStrike">
              <a:solidFill>
                <a:srgbClr val="000000"/>
              </a:solidFill>
              <a:latin typeface="Arial"/>
            </a:endParaRPr>
          </a:p>
        </p:txBody>
      </p:sp>
      <p:sp>
        <p:nvSpPr>
          <p:cNvPr id="187"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2E97-BAE6-4AA1-A0E8-4ED21E9729C3}"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88" name="Imagem 5" descr="Logo_Departamento da Qualidade na Saúde.jpg"/>
          <p:cNvPicPr/>
          <p:nvPr/>
        </p:nvPicPr>
        <p:blipFill>
          <a:blip r:embed="rId1"/>
          <a:stretch/>
        </p:blipFill>
        <p:spPr>
          <a:xfrm>
            <a:off x="7170840" y="0"/>
            <a:ext cx="1969920" cy="11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ângulo 2"/>
          <p:cNvSpPr/>
          <p:nvPr/>
        </p:nvSpPr>
        <p:spPr>
          <a:xfrm>
            <a:off x="1192320" y="2778120"/>
            <a:ext cx="6834240" cy="66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984807"/>
                </a:solidFill>
                <a:latin typeface="Open Sans"/>
              </a:rPr>
              <a:t>Obrigada pela Atençã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49280" y="404640"/>
            <a:ext cx="490392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0000"/>
              </a:solidFill>
              <a:latin typeface="Open Sans"/>
              <a:ea typeface="ＭＳ Ｐゴシック"/>
            </a:endParaRPr>
          </a:p>
        </p:txBody>
      </p:sp>
      <p:sp>
        <p:nvSpPr>
          <p:cNvPr id="99" name=""/>
          <p:cNvSpPr txBox="1"/>
          <p:nvPr/>
        </p:nvSpPr>
        <p:spPr>
          <a:xfrm>
            <a:off x="2171520" y="2336760"/>
            <a:ext cx="6514920" cy="3789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As PBVT baseiam-se nas vias de transmissão</a:t>
            </a:r>
            <a:endParaRPr b="0" lang="en-US" sz="2400" spc="-1" strike="noStrike">
              <a:solidFill>
                <a:srgbClr val="000000"/>
              </a:solidFill>
              <a:latin typeface="Open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3 categorias:</a:t>
            </a:r>
            <a:endParaRPr b="0" lang="en-US" sz="24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Contacto</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Gotículas</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Via Aérea</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Open Sans"/>
            </a:endParaRPr>
          </a:p>
          <a:p>
            <a:pPr lvl="1" marL="735480" indent="-282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As práticas usadas nas PBVT, podem variar entre unidades de saúde diferentes</a:t>
            </a:r>
            <a:r>
              <a:rPr b="0" lang="en-CA" sz="2400" spc="-1" strike="noStrike">
                <a:solidFill>
                  <a:srgbClr val="000000"/>
                </a:solidFill>
                <a:latin typeface="Open Sans"/>
                <a:ea typeface="ＭＳ Ｐゴシック"/>
              </a:rPr>
              <a:t> </a:t>
            </a:r>
            <a:endParaRPr b="0" lang="en-US" sz="2400" spc="-1" strike="noStrike">
              <a:solidFill>
                <a:srgbClr val="000000"/>
              </a:solidFill>
              <a:latin typeface="Open Sans"/>
            </a:endParaRPr>
          </a:p>
        </p:txBody>
      </p:sp>
      <p:sp>
        <p:nvSpPr>
          <p:cNvPr id="10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2991-7FBC-4FA8-A887-E59BDCF83D4E}"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01" name="Seta para baixo 4"/>
          <p:cNvSpPr/>
          <p:nvPr/>
        </p:nvSpPr>
        <p:spPr>
          <a:xfrm>
            <a:off x="3378240" y="2768760"/>
            <a:ext cx="469800" cy="558720"/>
          </a:xfrm>
          <a:prstGeom prst="down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84160" y="493560"/>
            <a:ext cx="61452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Elementos das PBVT</a:t>
            </a:r>
            <a:endParaRPr b="0" lang="en-US" sz="2800" spc="-1" strike="noStrike">
              <a:solidFill>
                <a:srgbClr val="000000"/>
              </a:solidFill>
              <a:latin typeface="Open Sans"/>
            </a:endParaRPr>
          </a:p>
        </p:txBody>
      </p:sp>
      <p:pic>
        <p:nvPicPr>
          <p:cNvPr id="103" name="Content Placeholder 4" descr=""/>
          <p:cNvPicPr/>
          <p:nvPr/>
        </p:nvPicPr>
        <p:blipFill>
          <a:blip r:embed="rId1"/>
          <a:stretch/>
        </p:blipFill>
        <p:spPr>
          <a:xfrm>
            <a:off x="1457280" y="1395360"/>
            <a:ext cx="7424640" cy="4840200"/>
          </a:xfrm>
          <a:prstGeom prst="rect">
            <a:avLst/>
          </a:prstGeom>
          <a:ln w="0">
            <a:noFill/>
          </a:ln>
        </p:spPr>
      </p:pic>
      <p:sp>
        <p:nvSpPr>
          <p:cNvPr id="10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A7C0-70A3-46A8-9D0C-1A7D152B9330}"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7528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84CA-D916-4E4E-B2EA-5DAFC4746A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
          <p:cNvSpPr/>
          <p:nvPr/>
        </p:nvSpPr>
        <p:spPr>
          <a:xfrm>
            <a:off x="239760" y="609480"/>
            <a:ext cx="186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 </a:t>
            </a:r>
            <a:r>
              <a:rPr b="1" lang="en-CA" sz="2800" spc="-1" strike="noStrike">
                <a:solidFill>
                  <a:srgbClr val="64bf25"/>
                </a:solidFill>
                <a:latin typeface="Arial"/>
                <a:ea typeface="Arial"/>
              </a:rPr>
              <a:t>Checklist</a:t>
            </a:r>
            <a:endParaRPr b="0" lang="en-US" sz="2800" spc="-1" strike="noStrike">
              <a:solidFill>
                <a:srgbClr val="000000"/>
              </a:solidFill>
              <a:latin typeface="Arial"/>
            </a:endParaRPr>
          </a:p>
        </p:txBody>
      </p:sp>
      <p:pic>
        <p:nvPicPr>
          <p:cNvPr id="108"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0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1E60-5ED1-4299-8078-D24ACC8DA8BF}"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Avaliação da aprendizagem</a:t>
            </a:r>
            <a:endParaRPr b="0" lang="en-US" sz="2800" spc="-1" strike="noStrike">
              <a:solidFill>
                <a:srgbClr val="000000"/>
              </a:solidFill>
              <a:latin typeface="Open Sans"/>
            </a:endParaRPr>
          </a:p>
        </p:txBody>
      </p:sp>
      <p:sp>
        <p:nvSpPr>
          <p:cNvPr id="111" name=""/>
          <p:cNvSpPr txBox="1"/>
          <p:nvPr/>
        </p:nvSpPr>
        <p:spPr>
          <a:xfrm>
            <a:off x="1397160" y="1436760"/>
            <a:ext cx="7457760" cy="4736880"/>
          </a:xfrm>
          <a:prstGeom prst="rect">
            <a:avLst/>
          </a:prstGeom>
          <a:solidFill>
            <a:srgbClr val="ffffff"/>
          </a:solidFill>
          <a:ln w="0">
            <a:noFill/>
          </a:ln>
        </p:spPr>
        <p:txBody>
          <a:bodyPr anchor="t">
            <a:normAutofit fontScale="88000"/>
          </a:bodyPr>
          <a:p>
            <a:pPr marL="335160" indent="-335160" algn="just">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Qual das seguintes respostas é verdadeira, acerca das PBVT?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devem ser usadas só quando o GCL-PPCIRA o informa sobre a situação.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CI são usadas em complementaridade das PBCI, em alguns utente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apenas pelos enfermeiro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de igual modo, em todas as unidades de saúde.</a:t>
            </a:r>
            <a:endParaRPr b="0" lang="en-US" sz="2400" spc="-1" strike="noStrike">
              <a:solidFill>
                <a:srgbClr val="000000"/>
              </a:solidFill>
              <a:latin typeface="Open Sans"/>
            </a:endParaRPr>
          </a:p>
        </p:txBody>
      </p:sp>
      <p:sp>
        <p:nvSpPr>
          <p:cNvPr id="11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27FF-9FDC-4532-8FA9-DCC8AFFE7868}"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5400" y="226800"/>
            <a:ext cx="78800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Resposta: </a:t>
            </a:r>
            <a:endParaRPr b="0" lang="en-US" sz="2800" spc="-1" strike="noStrike">
              <a:solidFill>
                <a:srgbClr val="000000"/>
              </a:solidFill>
              <a:latin typeface="Open Sans"/>
            </a:endParaRPr>
          </a:p>
        </p:txBody>
      </p:sp>
      <p:sp>
        <p:nvSpPr>
          <p:cNvPr id="114" name=""/>
          <p:cNvSpPr txBox="1"/>
          <p:nvPr/>
        </p:nvSpPr>
        <p:spPr>
          <a:xfrm>
            <a:off x="1206000" y="1436760"/>
            <a:ext cx="7480440" cy="473688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Resposta correta:  </a:t>
            </a:r>
            <a:endParaRPr b="0" lang="en-US" sz="2400" spc="-1" strike="noStrike">
              <a:solidFill>
                <a:srgbClr val="000000"/>
              </a:solidFill>
              <a:latin typeface="Open Sans"/>
            </a:endParaRPr>
          </a:p>
          <a:p>
            <a:pPr marL="335880" indent="-3358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usam-se sempre, adicionalmente às PBCI, quando se está a prestar um cuidado de saúde a um utente que tenha um microrganismo específico (ex: multirresistente) ou com sintomas, e que possa ser transmitido a outros utentes, às visitas ou aos profissionais de saúde.</a:t>
            </a:r>
            <a:endParaRPr b="0" lang="en-US" sz="2400" spc="-1" strike="noStrike">
              <a:solidFill>
                <a:srgbClr val="000000"/>
              </a:solidFill>
              <a:latin typeface="Open Sans"/>
            </a:endParaRPr>
          </a:p>
        </p:txBody>
      </p:sp>
      <p:sp>
        <p:nvSpPr>
          <p:cNvPr id="11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D714-ADED-4B4B-BC0E-2F429F1CD50E}"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CA" sz="2800" spc="-1" strike="noStrike">
                <a:solidFill>
                  <a:srgbClr val="000000"/>
                </a:solidFill>
                <a:latin typeface="Open Sans"/>
                <a:ea typeface="ＭＳ Ｐゴシック"/>
              </a:rPr>
              <a:t>Precauções de Contacto</a:t>
            </a:r>
            <a:endParaRPr b="0" lang="en-US" sz="2800" spc="-1" strike="noStrike">
              <a:solidFill>
                <a:srgbClr val="000000"/>
              </a:solidFill>
              <a:latin typeface="Open Sans"/>
            </a:endParaRPr>
          </a:p>
        </p:txBody>
      </p:sp>
      <p:sp>
        <p:nvSpPr>
          <p:cNvPr id="117" name=""/>
          <p:cNvSpPr txBox="1"/>
          <p:nvPr/>
        </p:nvSpPr>
        <p:spPr>
          <a:xfrm>
            <a:off x="-360" y="888840"/>
            <a:ext cx="4861080" cy="528480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como indicado no sinalizador</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VRE and </a:t>
            </a:r>
            <a:r>
              <a:rPr b="0" i="1" lang="en-CA" sz="2000" spc="-1" strike="noStrike">
                <a:solidFill>
                  <a:srgbClr val="000000"/>
                </a:solidFill>
                <a:latin typeface="Open Sans"/>
                <a:ea typeface="ＭＳ Ｐゴシック"/>
              </a:rPr>
              <a:t>C. difficile </a:t>
            </a:r>
            <a:r>
              <a:rPr b="0" lang="en-CA" sz="2000" spc="-1" strike="noStrike">
                <a:solidFill>
                  <a:srgbClr val="000000"/>
                </a:solidFill>
                <a:latin typeface="Open Sans"/>
                <a:ea typeface="ＭＳ Ｐゴシック"/>
              </a:rPr>
              <a:t>requerem limpeza específic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vem ser limpas no mínimo 1 x por di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mover o cortinado, quando visivelmente sujo, ou na limpeza terminal da unidade do doente, aquando da alta/transferência</a:t>
            </a:r>
            <a:endParaRPr b="0" lang="en-US" sz="2000" spc="-1" strike="noStrike">
              <a:solidFill>
                <a:srgbClr val="000000"/>
              </a:solidFill>
              <a:latin typeface="Open Sans"/>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18" name="Content Placeholder 4"/>
          <p:cNvGraphicFramePr/>
          <p:nvPr/>
        </p:nvGraphicFramePr>
        <p:xfrm>
          <a:off x="4929120" y="868320"/>
          <a:ext cx="4016520" cy="5288040"/>
        </p:xfrm>
        <a:graphic>
          <a:graphicData uri="http://schemas.openxmlformats.org/presentationml/2006/ole">
            <p:oleObj r:id="rId1" spid="">
              <p:embed/>
              <p:pic>
                <p:nvPicPr>
                  <p:cNvPr id="119" name="Content Placeholder 4" descr=""/>
                  <p:cNvPicPr/>
                  <p:nvPr/>
                </p:nvPicPr>
                <p:blipFill>
                  <a:blip r:embed="rId2"/>
                  <a:stretch/>
                </p:blipFill>
                <p:spPr>
                  <a:xfrm>
                    <a:off x="4929120" y="868320"/>
                    <a:ext cx="4016520" cy="5288040"/>
                  </a:xfrm>
                  <a:prstGeom prst="rect">
                    <a:avLst/>
                  </a:prstGeom>
                  <a:ln w="0">
                    <a:noFill/>
                  </a:ln>
                </p:spPr>
              </p:pic>
            </p:oleObj>
          </a:graphicData>
        </a:graphic>
      </p:graphicFrame>
      <p:sp>
        <p:nvSpPr>
          <p:cNvPr id="120" name="Text Box 5"/>
          <p:cNvSpPr/>
          <p:nvPr/>
        </p:nvSpPr>
        <p:spPr>
          <a:xfrm>
            <a:off x="4998960" y="6324480"/>
            <a:ext cx="368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É apenas um exemplo de sinalizador!</a:t>
            </a:r>
            <a:endParaRPr b="0" lang="en-US" sz="1600" spc="-1" strike="noStrike">
              <a:solidFill>
                <a:srgbClr val="000000"/>
              </a:solidFill>
              <a:latin typeface="Arial"/>
            </a:endParaRPr>
          </a:p>
        </p:txBody>
      </p:sp>
      <p:sp>
        <p:nvSpPr>
          <p:cNvPr id="121" name="Slide Number Placeholder 1"/>
          <p:cNvSpPr/>
          <p:nvPr/>
        </p:nvSpPr>
        <p:spPr>
          <a:xfrm>
            <a:off x="6800760" y="6532560"/>
            <a:ext cx="2133720" cy="32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493B-82C9-490F-BC67-56FB98453477}"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22" name="Rectângulo 6"/>
          <p:cNvSpPr/>
          <p:nvPr/>
        </p:nvSpPr>
        <p:spPr>
          <a:xfrm>
            <a:off x="4876920" y="930240"/>
            <a:ext cx="42670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23" name="Rectângulo 9"/>
          <p:cNvSpPr/>
          <p:nvPr/>
        </p:nvSpPr>
        <p:spPr>
          <a:xfrm>
            <a:off x="5913360" y="2073240"/>
            <a:ext cx="2057400" cy="5335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PRECAUÇÕES </a:t>
            </a:r>
            <a:endParaRPr b="0" lang="en-US" sz="2000" spc="-1" strike="noStrike">
              <a:solidFill>
                <a:srgbClr val="000000"/>
              </a:solidFill>
              <a:latin typeface="Arial"/>
            </a:endParaRPr>
          </a:p>
        </p:txBody>
      </p:sp>
      <p:sp>
        <p:nvSpPr>
          <p:cNvPr id="124" name="Rectângulo 10"/>
          <p:cNvSpPr/>
          <p:nvPr/>
        </p:nvSpPr>
        <p:spPr>
          <a:xfrm>
            <a:off x="5440320" y="2544840"/>
            <a:ext cx="2987640" cy="5634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CONTACTO (PC)</a:t>
            </a:r>
            <a:endParaRPr b="0" lang="en-US" sz="2000" spc="-1" strike="noStrike">
              <a:solidFill>
                <a:srgbClr val="000000"/>
              </a:solidFill>
              <a:latin typeface="Arial"/>
            </a:endParaRPr>
          </a:p>
        </p:txBody>
      </p:sp>
      <p:sp>
        <p:nvSpPr>
          <p:cNvPr id="125" name="Rectângulo 11"/>
          <p:cNvSpPr/>
          <p:nvPr/>
        </p:nvSpPr>
        <p:spPr>
          <a:xfrm>
            <a:off x="5121360" y="5257800"/>
            <a:ext cx="3671640" cy="9907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C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1600" y="290520"/>
            <a:ext cx="8120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27" name=""/>
          <p:cNvSpPr txBox="1"/>
          <p:nvPr/>
        </p:nvSpPr>
        <p:spPr>
          <a:xfrm>
            <a:off x="1193760" y="2082600"/>
            <a:ext cx="7493040" cy="40431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diária – limpar o quarto 2 x dia</a:t>
            </a:r>
            <a:endParaRPr b="0" lang="en-US" sz="24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dicionalmente à limpeza de rotina:</a:t>
            </a:r>
            <a:endParaRPr b="0" lang="en-US" sz="24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a:t>
            </a:r>
            <a:r>
              <a:rPr b="0" lang="pt-PT" sz="2000" spc="-1" strike="noStrike">
                <a:solidFill>
                  <a:srgbClr val="000000"/>
                </a:solidFill>
                <a:latin typeface="Open Sans"/>
              </a:rPr>
              <a:t>balde limpo, cabeça de esfregona e pan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pós a limpeza, aplicar um desinfetante em todas as superfícies e assegurar que o desinfetante contactou com todas as superfícies, durante o tempo necesário à sua ação (se o produto for esporicida, este passo não é necessário)</a:t>
            </a:r>
            <a:endParaRPr b="0" lang="en-US" sz="2000" spc="-1" strike="noStrike">
              <a:solidFill>
                <a:srgbClr val="000000"/>
              </a:solidFill>
              <a:latin typeface="Open Sans"/>
            </a:endParaRPr>
          </a:p>
        </p:txBody>
      </p:sp>
      <p:sp>
        <p:nvSpPr>
          <p:cNvPr id="12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8873-A7D9-406B-9797-652DCC538BD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Goreti</cp:lastModifiedBy>
  <dcterms:modified xsi:type="dcterms:W3CDTF">2015-05-03T11:28:50Z</dcterms:modified>
  <cp:revision>279</cp:revision>
  <dc:subject/>
  <dc:title>Diapositivo 1</dc:title>
</cp:coreProperties>
</file>